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734-D758-48D1-9CA9-C338D212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19D-D625-4A60-9724-49652B76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544-8051-4F96-BE66-ED4BC8A6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15B-26CC-4C05-B9FF-A3DA9815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C36-D746-4A5C-8452-DFE19F6D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1D8-86BF-46D4-95B9-6E732D58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6B8-89A2-4EC8-9C53-7075FC95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E64-AF15-4F5E-BDC9-7205CC2B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32A-035B-413B-B98C-86EC9111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E32-E17C-472B-BBB8-3CAB98EF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328-4C49-4FAB-AD63-EF96D6D1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81A-30FA-4B77-8CAA-83487127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E96-C6A0-4196-88BB-64B07D5E93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371600"/>
            <a:ext cx="914400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E 363 Design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Choudhary, Eyad Lababidi, Kate Vance, Matt Bock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gain Differential 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46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 A/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ive Vr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Array Nbits then 2^N Compa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85629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ority Enco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bits to 4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but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ive ladder and summing amplif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600200" y="2168640"/>
            <a:ext cx="5791320" cy="447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Content Placeholder 3" descr="ArbDemo.png"/>
          <p:cNvPicPr/>
          <p:nvPr/>
        </p:nvPicPr>
        <p:blipFill>
          <a:blip r:embed="rId1"/>
          <a:stretch/>
        </p:blipFill>
        <p:spPr>
          <a:xfrm>
            <a:off x="1066680" y="1600200"/>
            <a:ext cx="705348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511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r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A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29600" cy="382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ide A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7246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and Inno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8 Decoder and t-gate vs muxing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s power and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logic for worst case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ester adder with inverted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z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d to minimize WC delay, rest minim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 registers sized up to drive 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8 Decoder sized up to drive all t-g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/SU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used logic of ADDER + XOR&lt;0:15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-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or and Carry in&lt;0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ester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st case is carrying through propagate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&lt;0…00&gt;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0..00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&lt;0…00&gt;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1…1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/SUB Optom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buffers every 4 in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arger inverters as buf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 carry chain to deal with inversion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T-gates larger for less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bitrary Fu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 to digital and digital to analog con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ignals must be digit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and non-static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4:59:39Z</dcterms:created>
  <dc:creator>Matthew Bocknek</dc:creator>
  <dc:description/>
  <dc:language>en-US</dc:language>
  <cp:lastModifiedBy>N</cp:lastModifiedBy>
  <dcterms:modified xsi:type="dcterms:W3CDTF">2008-04-29T15:49:02Z</dcterms:modified>
  <cp:revision>25</cp:revision>
  <dc:subject/>
  <dc:title>Arbitrary Function</dc:title>
</cp:coreProperties>
</file>